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267-91E3-4420-BE8E-96C01D8B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857-9429-45BF-963E-1B925276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7CE-ADFA-4F1B-AFF2-0A1B90A3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B80-0055-41C6-A505-8CB5DB15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05A-3A30-47BD-B15F-31EFE152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104-D48B-4DE4-9C21-8FA7ED4A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A0BD-33BA-4E58-9C9A-E9A5E87A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D29-610F-4A0A-9B77-C1F3A5B9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0203-8173-41D0-8A4E-72119AFA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C70-12F8-4EF7-AD65-4D6BCDE7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931-511A-4E50-BD02-734313CD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430-86AD-40D1-96B2-F2D78DEC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412920"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41720" indent="-412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41720" indent="-412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41720" indent="-412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4800-E81D-412C-813B-741CBDE19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-1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orm M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 Blanc (1813-188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ed the vote for the working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d that social problems could be solved by government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. Anarc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ed industry and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. Marx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l Marx (1818-188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812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a Jewish lawyer who converted to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812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eist born in Rhin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95720" y="1600200"/>
            <a:ext cx="3343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xism was one of many competing socialist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ecause of claims to scientific accuracy, rejection of reform, and call for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 with Friedrich En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els (1820-1895) wro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Condition of the Working Class in Engl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showed dark side of industri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wro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Communist Manifes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18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French socialism, British economics, and Hegelian view of huma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socialism – Utopian soci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 – based on capitalism of Adam Smith and provided a scientific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 Hegel and history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ed that thought develops from the clash of thesis and antithesis into a new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has a pattern and a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x applied thesis and antithesis into competing socia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unist Manifes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ed that “the history of all previously existing society is the history of class strugg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lass had always exploited the other – now was a conflict between the middle class (bourgeoisie) and the modern working class (proletari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proletariat got richer, while ever-poorer proletariat grew in size and in class-consciousness – proletariat was aided by bourgeoisie who had gone over to them - the proletariat would conquer the bourgeoisie in a violent revolution – set up a dictatorship of the proletariat to operate the means of production – this would lead to a propertyless and classless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letarians have nothing to lose but their chains.  They have a world to win.  WORKING MEN OF ALL COUNTRIES, UNITE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-1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s based on liberalism and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on by romantic impulse, economic crisis, and food shor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s failed, but ended it ended the Congress of Vienna and the Concert of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 Philippe (r. 1830-18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ve monarch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8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eople rose up against him and built barricades in str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icated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Utilitari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ized by Jeremy Bent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ght to create codes of scientific law founded on the principle of utility, the greatest happiness for the greatest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icades in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82680" y="1600200"/>
            <a:ext cx="657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manhood suff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d a ten-hour workday for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between two classes of revolution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746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class opposed radical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746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cals committed to soc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746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ublic works program that put unemployed people to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elections to National Assembly won by moderates and conser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– radical artisans overtook the Assembly until put down by the National G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Days – the government shut down national workshops – led to violent uprising in the streets called the June Days – 10,000 people dead or inj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er – people elected Louis Napoleon (Napoleon’s nephew) for stability and grea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er 1851 – Napoleon seized power – became Emperor Napoleon III in a plebiscite in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oleon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46240" y="1600200"/>
            <a:ext cx="3251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na upri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cal students inspired by Louis Kossuth led disturb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ternich and the government f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ing government feared agitation in the countryside and freed the ser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ary emancipated its ser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is Kossuth – Hungarian natio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yars – Hungarian nobles – wanted more independence from Vi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an autonomous, unified and centralized Hungarian nation within Austri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itory included Croats, Serbs, and Romanians who resisted Magy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uis Koss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32040" y="1600200"/>
            <a:ext cx="3679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gue and Czech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hemians wanted to be autonomous like Hung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d pan-Slav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t in Prague shut down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. P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als wanted to unite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Frederick William IV promised a liberal constitution and to merge Prussia into a new German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kfurt Assemb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to put together a constitution for German un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Frederick William to the be the king, but he refused and asserted his rule by divin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-1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ge of Nation-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Ludd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ed craftsmen who attacked the machines that they believed threatened their liveli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974960"/>
            <a:ext cx="403848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The Crime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wanted to take advantage of crumbling Ottoman Empire and seize some of its territory in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in charge of Ottoman Empires Orthodox Christians – France responsible for Roman Catho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185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 attacked Ottoman Empire because right to protect Christians in Palestine given to 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8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and British declare war on Russia to protect naval and commercial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o ensure Russia does not dominate Ottoman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ia and Prussia sta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of Paris (18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 lost land and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death toll (250,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nce Nightingale, British nurse, insisted on strict sanitary 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creation of nursing as a profession of trained, middle-class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war covered with news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ended the Concert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rence Nighting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1633680"/>
            <a:ext cx="678168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The Unification of It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ongress of Vienna most of Italy under Austrian do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tic nation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ari (“charcoal burners) – secret societies planning a revolution to create an Italian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orgimento – resu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ussepe Mazzini (1805-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272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d “Young Italy” whose goal was the creation of a united Italian republ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zz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110040" y="1600200"/>
            <a:ext cx="292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8 insu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lions began in papa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of Piedmont invaded Lombardy (controlled by Austria) and lost –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9 - Austria reestablished control of Italy, except Piedm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Victor Emmanuel (1849-1878) of Piedmont named Count Camillo di Cavour (1810-1861) his prime min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vour – wanted to unite Italy economically, not romantically, and rejected republic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rewd politician (Machiavellia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8 – Cavour alliance with France and Napoleon III – Piedmont would acquire the states in Upper Italy and France would receive Nice and Sav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9 – Cavour provoked Austria to invade Piedmont – French defeated Austria, but made peace with Austria without telling Piedm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useppe Garibal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tic natio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0 – Successfully led an army of volunteer Red Shirts from Sicily and the s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avoi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invade Rome because protected by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ibaldi yielded to Cavour instead of provoking a civi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vour and Garibal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7640" y="2286000"/>
            <a:ext cx="3092400" cy="3129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35680" y="1600200"/>
            <a:ext cx="326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Char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in Eng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ed universal male suffrage, payment for members of Parliament, and annual sessions of 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ed develop a working-class consciousness in millions of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1861 – new kingdom of Italy proclaimed with a centralized government and led by King Victor Emmanuel II of Pied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unite conquered people – used ‘transformismo’ to bribe government suppo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6 - Venetia joined during the Austro-Prussian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70 – Rome joined when the French withdrew because of the Franco-Prussian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098720"/>
            <a:ext cx="822960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The Unification of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llverein – German customs union formed in 1834 to stimulate trade of its memb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48 – Frankfurt Assembly failed to unite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deutsch – large Germany including A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deutsch – smaller Germany excluding Aust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d between East and West P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d by strong a strong king with weak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1 – King William I (1861-1888) takes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ed to reform the army – double size, compulsory military service – parliament rejected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2 – appointed Count Otto von Bismarck Prime Min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mar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ker, aristocrat, industrialist, brilliant polit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lpolit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actical, pragmatic poli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d parliament, collected the taxes, and improved the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91120" y="1600200"/>
            <a:ext cx="315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marck’s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d that Prussia would only be fighting one power and that opponent would be isolated diplom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ish War (186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mark tried to take north German territories, Schleswig and Hol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ussia joined with Austria and defeated Denma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ussia took Schleswig, Austria took Hol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ustro Prussian War / Seven Weeks War (186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marck ensured Russian neutrality, promised Napoleon III territory in Rhineland, and promised the new Italian state Venetia if it defeated Aus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1866 – Prussia goaded Austria into war and easily w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ia lost only Venetia, but was excluded from German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German Confed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ussia annexed territory in N. Germany that supported A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al appearance, but not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liberals preferred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anco-Prussian War (1870-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ish throne was offered to Prince Leopold, a distant relative of William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 surrounded by Prussia - objected and caused Leopold to withdraw his candidacy – he did - French pushed King William I to promise never to allow Leopold to be a candidate again – King ref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s telegram – William sent Bismarck a telegram about meeting - Bismarck edited it to make it appear insulting to the French so that they would declare war and he could unite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. Utopian Soc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ed private property and competition and emphasized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al attitudes toward women and sex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ed by the French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te de Saint-Simon (1760-18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d that society should be run by experts standing above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15, 1870 – French declared war on P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in southern Germany joined the Northern Confederation because of military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2, 1870 – Battle of Sedan – Prussia won and Napoleon III was cap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8, 1871 – war ended – France gave up the provinces of Alsace and Lo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18, 1871 – William I was declared Kaiser (or emperor) of the Second Germany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sm triumphed over libe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prepared to industri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Fourier (1772-18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small model communities called phalansteries – based on communal living of 1600 men, women, and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ember performed a number of tasks – no bor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hala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152568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Owen (1771-185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anark, Scotland – factory town that was a healthy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eveloped pride in community, productivity rose, profits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ly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Lan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31880"/>
            <a:ext cx="82296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3:03:00Z</dcterms:created>
  <dc:creator> </dc:creator>
  <dc:description/>
  <dc:language>en-US</dc:language>
  <cp:lastModifiedBy> </cp:lastModifiedBy>
  <dcterms:modified xsi:type="dcterms:W3CDTF">2005-02-10T23:32:57Z</dcterms:modified>
  <cp:revision>8</cp:revision>
  <dc:subject/>
  <dc:title>Mid-19th Century Politics</dc:title>
</cp:coreProperties>
</file>